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glass.wav" ContentType="audio/x-wav"/>
  <Override PartName="/ppt/media/applause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3FF6-9D6C-4ADF-AAE9-A3BD5C066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A4C8-A8AE-466E-B843-B77D7ECD2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D1EE-A364-4FB4-B1E9-5B9F4BB97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DCE3-AEC1-4C21-8DE2-791A6518A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14F3-DE59-45F8-969F-DCF99860C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D16C-C3A8-45D7-8CAB-641AFF9D7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D863-3EBE-4730-B637-37984776C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D66D-8F7F-4549-A3D0-02F46D04C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49F8-FCE1-46E3-A5AE-225461FA3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2370-21AD-4E81-83CF-54521F9E1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FF85-83EE-4E10-957D-6545AF7D4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AF44-7BCF-434A-B4A8-980398AB3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1122C-C1AB-48FF-9F24-83C84CF450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bjOGNVH3D4Y" TargetMode="External"/><Relationship Id="rId2" Type="http://schemas.openxmlformats.org/officeDocument/2006/relationships/image" Target="../media/image1.jpeg"/><Relationship Id="rId3" Type="http://schemas.openxmlformats.org/officeDocument/2006/relationships/audio" Target="../media/glass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p3NKWF8uJYc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t 4-3 Noteguide  Physics and Quantam Mechanica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152280" y="1066680"/>
            <a:ext cx="8686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ntum Mechanical Model came from the study of 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Newton thought it was because light consisted of particles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152280" y="1981080"/>
            <a:ext cx="8763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152280" y="1905120"/>
            <a:ext cx="8991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228600" y="198108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later it was confirmed light comes in wa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533520" y="2362320"/>
            <a:ext cx="8458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a complete wave cycle starts at zero to reach its lowest value and returns to zer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amplitude of wave = waves height from zero to cr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380880" y="3657600"/>
            <a:ext cx="86108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wavelength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) = distance between cre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frequency (ν) = # of wave cycles to pass a given point per unit of time.  Measured in cylces per second = hertz (H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can calculate frequency and waveleng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838080" y="12193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ν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62120" y="152388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wavelength and frequency of light are inversely proportional to each other.  (As one increases, the other decreas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609480" y="2666880"/>
            <a:ext cx="80010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ght consists of electromagnetic waves (radi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includes radio waves, microwaves, infrared waves, visible light, ultraviolet waves, X-rays, and gamma ra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all electromagnetic waves travel in a vacuum at a speed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99a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Spectru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 sunlight passes through a prisim and the different frequencies separate into a rainbow of col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4" descr="H:\chemistry\spectrum 001.jpg"/>
          <p:cNvPicPr/>
          <p:nvPr/>
        </p:nvPicPr>
        <p:blipFill>
          <a:blip r:embed="rId2"/>
          <a:stretch/>
        </p:blipFill>
        <p:spPr>
          <a:xfrm>
            <a:off x="304920" y="1295280"/>
            <a:ext cx="8305560" cy="516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152280" y="11430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omic Spectra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228600" y="1523880"/>
            <a:ext cx="86868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When atoms absorb energy, they electrons jump to a higher energy level and as they lose energy and return to the lower energy level they emit the energy in the form of 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EX: 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Neon Light in a gas t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609480" y="3200400"/>
            <a:ext cx="83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each specific frequency of visible light has its own particular co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609480" y="388620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when we use a prisim, we can see the frequencies of light emitted by an element separate into distinct lines = atomic emission spectr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7"/>
          <p:cNvSpPr/>
          <p:nvPr/>
        </p:nvSpPr>
        <p:spPr>
          <a:xfrm>
            <a:off x="1066680" y="50292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each line in the spectrum corresponds to 1 frequency of 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no 2 elements have the same emission spectr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1676520" y="114300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ilar to how two snowflakes are not the s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838080" y="152388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emission spectrum useful to study the stars’ make-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380880" y="205740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hr’s model also hypothesized that electrons can jump to higher energy levels. (hydrogen atom onl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685800" y="2895480"/>
            <a:ext cx="81532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electron in its lowest energy level = ground state (quantum # (n) =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when the electron gets excited (not that way silly   )  the atom jumps to the excited stage with the n = 2, 3, 4 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AutoShape 7"/>
          <p:cNvSpPr/>
          <p:nvPr/>
        </p:nvSpPr>
        <p:spPr>
          <a:xfrm>
            <a:off x="6934320" y="3962520"/>
            <a:ext cx="228600" cy="2286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685800" y="449568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ok smarty pants, when is the light given off?  When the electron goes down an energy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we can calculate how much electronic transition (jumping from/to energy lev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1371600" y="129528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  (h is constant = 6.626 x 10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-3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J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838080" y="1828800"/>
            <a:ext cx="723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ght given off by an electron moving from a higher to a lower energy level has a frequency directly proportional to the energy change of the electr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1066680" y="3124080"/>
            <a:ext cx="701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this is why each transition makes a line of a specific frequency in the spectr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304920" y="3962520"/>
            <a:ext cx="8305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228600" y="388620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Quantum Mechan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8"/>
          <p:cNvSpPr/>
          <p:nvPr/>
        </p:nvSpPr>
        <p:spPr>
          <a:xfrm>
            <a:off x="533520" y="4343400"/>
            <a:ext cx="830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instein says that light is explained as quanta of energy (behave as wave particles)  = phot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De Broglie uses the idea of light particles traveling in waves to describe how all matter travels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304920" y="167652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lassical Mechanics vs. Quantum Mechan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685800" y="213372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Classical deals with describing the motion of large bodies  and quantum describes the motion of subatomic particles and atoms as wa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685800" y="327672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Heisenberg = can’t find the exact velocity and position of a particle at the same time (like electro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1143000" y="4038480"/>
            <a:ext cx="7467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Why?  Because the mass is so small that when struck by a photon it affects its motion in a way that is not predictable.  Therefore, just trying to determine the position changes its velocity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9T11:34:41Z</dcterms:created>
  <dc:creator>Farwell Area Schools</dc:creator>
  <dc:description/>
  <dc:language>en-US</dc:language>
  <cp:lastModifiedBy>Customer</cp:lastModifiedBy>
  <dcterms:modified xsi:type="dcterms:W3CDTF">2009-10-26T18:13:18Z</dcterms:modified>
  <cp:revision>20</cp:revision>
  <dc:subject/>
  <dc:title>Unit 4-3 Noteguide  Phsyics and Quantem Mechanical Model</dc:title>
</cp:coreProperties>
</file>